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9AE-11D6-4946-806F-E1CD0247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C57-4E4E-4900-B1FC-3268BCC8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712-0AB2-42B4-8A7A-FFAF1A34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BB7-628D-4A04-9174-0DFAF6B2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033-EEDB-47E2-8A00-27643DCD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BCD-1D97-46DD-A65E-F8807685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465-AAB5-44D8-B690-4BA1721C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A27-28DF-498E-BBF2-9B315201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F26-2BA5-4654-A82A-26ED5017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038-6546-461C-9F5B-05CBFAE2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591-DC50-4FCD-B277-7BE4B153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920-01AF-46E3-A857-894E2A5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B924-B6C7-464B-974A-4E56C5A70C8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érêt économique du raccordement de la Corse au réseau de gaz natur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accio, 29 novembr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232360" cy="17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80000" y="260280"/>
            <a:ext cx="1482480" cy="18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001960" cy="1857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2001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distributeurs de g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é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des réseaux de Bastia et d’Ajac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éation des nouvelles conc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s d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Rec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munérations régulées (C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557360"/>
            <a:ext cx="4176720" cy="45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1557360"/>
            <a:ext cx="3887640" cy="45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opérateur électric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é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ats de g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res achats de combust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penses d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66"/>
                </a:solidFill>
                <a:latin typeface="Arial"/>
              </a:rPr>
              <a:t>Rec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entes d’électricité (tarifs péréqu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ensation (CS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557360"/>
            <a:ext cx="417672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557360"/>
            <a:ext cx="417672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nsommateurs co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rifs d’électricité régulés et péréqués maint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rifs du gaz au pire maint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az distribué plus accessible à Bastia, Ajaccio et aill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conomies d’énergie rendues pos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consommateurs français d’électric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isse de la CSPE (environ 20 millions d’euros par a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Du strict point de vue économique, le raccordement de la Corse au réseau européen de gaz naturel est une bonne affaire pour la Corse et la collectivité nationale dans son ensem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olution du bilan énergétique du secteur électrique co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87280" y="1628640"/>
          <a:ext cx="69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9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ollectivité nationa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estiss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ssements avec le g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gazoduc terr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is de conversion des réseaux (~74 M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éseaux des localités nouvellement desservies en gaz naturel (~10 M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entrales électriques mix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ssements sans le g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entrales électriques au fioul lo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ollectivité nationa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ûts d’explo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coûts d’exploitation avec le g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chat du gaz nat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chat de l’électricité italien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péages GALSI et antenne mari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frais d’exploitation des opérateurs gaziers et électrici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coûts d’exploitation sans le g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chat des fiouls lourd et léger pour les 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chat des GPL pour les distributions de g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chat de l’électricité italienn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transport maritime des combust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frais d’exploitation des opérateurs gaziers et électrici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ollectivité nationa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lan économ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Rentabilité de l’ordre de 20% sur 15 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cte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AL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ransporteur de g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commercialisateurs du g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distributeurs de g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roducteur élect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consommateurs co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consommateurs franç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GAL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é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ssements dans le gazoduc et l’antenne mari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s d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66"/>
                </a:solidFill>
                <a:latin typeface="Arial"/>
              </a:rPr>
              <a:t>Rec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éages dérégulés et régulés en zone italienne (Autorita) et française (C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557360"/>
            <a:ext cx="424800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1557360"/>
            <a:ext cx="396108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ransporteur de g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é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ssement : le gazoduc terr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s d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Rec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éage régulé (C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557360"/>
            <a:ext cx="388764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1557360"/>
            <a:ext cx="403236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commercialisateurs de g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é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ats de g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éages GALSI, antenne, gazoduc terr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munération du distribu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Rec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es de gaz aux consomm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557360"/>
            <a:ext cx="4032360" cy="45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1557360"/>
            <a:ext cx="3816360" cy="45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7:07:26Z</dcterms:created>
  <dc:creator> Pierre SAVARY</dc:creator>
  <dc:description/>
  <dc:language>en-US</dc:language>
  <cp:lastModifiedBy>Gilles Notton</cp:lastModifiedBy>
  <dcterms:modified xsi:type="dcterms:W3CDTF">2008-01-15T14:04:44Z</dcterms:modified>
  <cp:revision>7</cp:revision>
  <dc:subject/>
  <dc:title>Le gaz en Corse</dc:title>
</cp:coreProperties>
</file>